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E73E-4924-4006-A4F5-75F64094C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73DC-9283-4AA4-8C71-375267D31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BC16-5DE3-4A0C-BC15-53DD97752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0D49-86D8-4A48-B1C4-9FA7CBB97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88E2-64DE-4186-950D-1671D2D91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C673-6772-4365-85AA-3662BFADE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6E80-CB37-45E9-839D-74B42A482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EF5A-10B8-454E-BB1D-68F685C91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31DA-D0D1-4B3D-A175-187046F4F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5F87-443D-4DB9-8B19-3A769FE93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11AA-E5FF-40F7-89F6-25BC213E9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118E-0E32-4AE7-9B2A-488E197C5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A452-66DB-4481-899E-D002346A2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3CE9-653B-4C37-93D7-85B88A6BE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7205-1B86-4749-A401-40712FF52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E7BC-3F27-45EC-A10F-8AA20EECA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34F1-F0E8-4F92-A55B-79837BD36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FE51-E02E-4318-A12B-FAE88CF72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4FA5-2C2C-4B76-A458-124490816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F765-D984-4E75-8EEC-65A095538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CC1F-D809-4107-B894-736553CE7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E5A1-4F63-41CC-9492-643512E0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461B-8491-4A59-95B6-4351F93A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A248-93AD-4ABB-BB3D-F3630588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67B7-0F40-4D95-8E7D-0D153E14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A233-FC0E-471D-A7A7-8E42C461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B9D-F33D-474A-A53F-8A214011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99EF-884B-41D6-AE2C-D5BFE13C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1E2-5F87-4C56-B30F-745D75D4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44C5-5781-484C-9BC2-20C4E17B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292-850F-416A-8275-5DCD1B1E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FD2E-6C87-45D9-836A-E4F79DF0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E5FF-8409-4855-8BC0-6C053730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B84E-4D0C-4619-86A8-4EE8B1754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erivative as the slope of the tangent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733920" y="4648320"/>
            <a:ext cx="15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t a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t closer and closer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3"/>
          <p:cNvSpPr/>
          <p:nvPr/>
        </p:nvSpPr>
        <p:spPr>
          <a:xfrm>
            <a:off x="1371600" y="213372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762120" y="60199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rc 5"/>
          <p:cNvSpPr/>
          <p:nvPr/>
        </p:nvSpPr>
        <p:spPr>
          <a:xfrm>
            <a:off x="1143000" y="3581280"/>
            <a:ext cx="5715000" cy="2895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6629400" y="5715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6477120" y="601992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19051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3276720" y="37339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1754280" y="6035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1"/>
          <p:cNvSpPr/>
          <p:nvPr/>
        </p:nvSpPr>
        <p:spPr>
          <a:xfrm>
            <a:off x="2133720" y="6324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4724280" y="4191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5257800" y="4419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4"/>
          <p:cNvSpPr/>
          <p:nvPr/>
        </p:nvSpPr>
        <p:spPr>
          <a:xfrm>
            <a:off x="6019920" y="4952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6400800" y="5334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6"/>
          <p:cNvSpPr/>
          <p:nvPr/>
        </p:nvSpPr>
        <p:spPr>
          <a:xfrm>
            <a:off x="3276720" y="632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4800600" y="6324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8"/>
          <p:cNvSpPr/>
          <p:nvPr/>
        </p:nvSpPr>
        <p:spPr>
          <a:xfrm>
            <a:off x="5257800" y="6324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9"/>
          <p:cNvSpPr/>
          <p:nvPr/>
        </p:nvSpPr>
        <p:spPr>
          <a:xfrm>
            <a:off x="6019920" y="6324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1814760" y="598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8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3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1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6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4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9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7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2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7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7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316160" y="1450800"/>
            <a:ext cx="616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lope of the secant lin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ts clos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the slope of the tangent line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133720" y="3505320"/>
            <a:ext cx="47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..as the values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t closer to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2133720" y="5257800"/>
            <a:ext cx="50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ranslates to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592000" y="2057400"/>
            <a:ext cx="92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124080" y="26668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59272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4038480" y="18288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(x) - f(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4572360" y="2514600"/>
            <a:ext cx="11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 -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4114800" y="25909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>
            <a:off x="28954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4858920" y="41562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tion for the sl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7"/>
          <p:cNvSpPr/>
          <p:nvPr/>
        </p:nvSpPr>
        <p:spPr>
          <a:xfrm flipH="1" flipV="1">
            <a:off x="5714640" y="3352320"/>
            <a:ext cx="762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1136520" y="5181480"/>
            <a:ext cx="45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gives us the the exact sl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ine tangent to the curve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1143000" y="38862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oe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22"/>
          <p:cNvSpPr/>
          <p:nvPr/>
        </p:nvSpPr>
        <p:spPr>
          <a:xfrm flipV="1">
            <a:off x="1676520" y="31240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ilarly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1371600" y="213372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762120" y="60199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rc 5"/>
          <p:cNvSpPr/>
          <p:nvPr/>
        </p:nvSpPr>
        <p:spPr>
          <a:xfrm>
            <a:off x="1143000" y="3581280"/>
            <a:ext cx="5715000" cy="2895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4952880" y="2286000"/>
            <a:ext cx="243864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7"/>
          <p:cNvSpPr/>
          <p:nvPr/>
        </p:nvSpPr>
        <p:spPr>
          <a:xfrm>
            <a:off x="6629400" y="5715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6477120" y="601992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814040" y="598500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523880" y="3429000"/>
            <a:ext cx="579132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11"/>
          <p:cNvSpPr/>
          <p:nvPr/>
        </p:nvSpPr>
        <p:spPr>
          <a:xfrm>
            <a:off x="19051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1981440" y="457200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a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905120" y="38098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4"/>
          <p:cNvSpPr/>
          <p:nvPr/>
        </p:nvSpPr>
        <p:spPr>
          <a:xfrm>
            <a:off x="655308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5715360" y="556272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5943600" y="225108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+h) - 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6095880" y="2590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+h) -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9"/>
          <p:cNvSpPr/>
          <p:nvPr/>
        </p:nvSpPr>
        <p:spPr>
          <a:xfrm>
            <a:off x="1981080" y="533412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1"/>
          <p:cNvSpPr/>
          <p:nvPr/>
        </p:nvSpPr>
        <p:spPr>
          <a:xfrm>
            <a:off x="5867280" y="26668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6765120" y="33940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f(x+h) - 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23"/>
          <p:cNvSpPr/>
          <p:nvPr/>
        </p:nvSpPr>
        <p:spPr>
          <a:xfrm>
            <a:off x="7696080" y="37339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24"/>
          <p:cNvSpPr/>
          <p:nvPr/>
        </p:nvSpPr>
        <p:spPr>
          <a:xfrm>
            <a:off x="7086600" y="3809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5"/>
          <p:cNvSpPr/>
          <p:nvPr/>
        </p:nvSpPr>
        <p:spPr>
          <a:xfrm>
            <a:off x="2127600" y="6324480"/>
            <a:ext cx="45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or this particular curve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negative va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371952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374840" y="228600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   f(a+h) - f(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895480" y="2743200"/>
            <a:ext cx="3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3716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16002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9"/>
          <p:cNvSpPr/>
          <p:nvPr/>
        </p:nvSpPr>
        <p:spPr>
          <a:xfrm>
            <a:off x="2133720" y="27432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3569040" y="36226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4330800" y="4714920"/>
            <a:ext cx="23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    f(x) - f(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4343400" y="506736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  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3"/>
          <p:cNvSpPr/>
          <p:nvPr/>
        </p:nvSpPr>
        <p:spPr>
          <a:xfrm>
            <a:off x="457200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5257800" y="51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5487480" y="51055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-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827640" y="5867280"/>
            <a:ext cx="74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us a way to calculate the slope of the line tangent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one should I u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3043800" y="4267080"/>
            <a:ext cx="29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oesn’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ERY simple exampl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5257800" cy="3902040"/>
          </a:xfrm>
          <a:prstGeom prst="rect">
            <a:avLst/>
          </a:prstGeom>
          <a:ln w="0">
            <a:noFill/>
          </a:ln>
        </p:spPr>
      </p:pic>
      <p:sp>
        <p:nvSpPr>
          <p:cNvPr id="256" name="Line 11"/>
          <p:cNvSpPr/>
          <p:nvPr/>
        </p:nvSpPr>
        <p:spPr>
          <a:xfrm flipV="1">
            <a:off x="4267080" y="3504960"/>
            <a:ext cx="190512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6400440" y="4952880"/>
            <a:ext cx="19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he sl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a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3"/>
          <p:cNvSpPr/>
          <p:nvPr/>
        </p:nvSpPr>
        <p:spPr>
          <a:xfrm flipH="1" flipV="1">
            <a:off x="5562360" y="441936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362480" y="3314880"/>
                <a:ext cx="419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362480" y="3314880"/>
                <a:ext cx="419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h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f>
                          <m:num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914400" y="1503360"/>
                <a:ext cx="12002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735120" y="720720"/>
                <a:ext cx="767376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/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828800" y="2438280"/>
                <a:ext cx="4788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Text Box 6"/>
          <p:cNvSpPr/>
          <p:nvPr/>
        </p:nvSpPr>
        <p:spPr>
          <a:xfrm>
            <a:off x="3658320" y="419112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x      a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4267080" y="4419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371600" y="1066680"/>
                <a:ext cx="6172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19320" y="2438280"/>
                <a:ext cx="67816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h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f>
                      <m:num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895480" y="4191120"/>
                <a:ext cx="3048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Text Box 6"/>
          <p:cNvSpPr/>
          <p:nvPr/>
        </p:nvSpPr>
        <p:spPr>
          <a:xfrm>
            <a:off x="3187080" y="5680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h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3886200" y="586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to our exampl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5257800" cy="3902040"/>
          </a:xfrm>
          <a:prstGeom prst="rect">
            <a:avLst/>
          </a:prstGeom>
          <a:ln w="0">
            <a:noFill/>
          </a:ln>
        </p:spPr>
      </p:pic>
      <p:sp>
        <p:nvSpPr>
          <p:cNvPr id="273" name="Line 4"/>
          <p:cNvSpPr/>
          <p:nvPr/>
        </p:nvSpPr>
        <p:spPr>
          <a:xfrm flipV="1">
            <a:off x="4267080" y="3504960"/>
            <a:ext cx="190512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6400440" y="4952880"/>
            <a:ext cx="178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=2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 is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6"/>
          <p:cNvSpPr/>
          <p:nvPr/>
        </p:nvSpPr>
        <p:spPr>
          <a:xfrm flipH="1" flipV="1">
            <a:off x="5562360" y="441936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4362480" y="3314880"/>
                <a:ext cx="419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362480" y="3314880"/>
                <a:ext cx="419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h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f>
                          <m:num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914400" y="1503360"/>
                <a:ext cx="12002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te of change of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lope of the lin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ang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the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rivative is the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lo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line tangent to the curve (evaluated at a point)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you know why slope was so important in your algebra class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limit (2 ways to define i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you learn the rules of derivatives, you will still remember these limit definitions, but you won’t use them to figure out lim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rivative of a constant function: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erivative of f(x) = c where c is a constant is given by  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 '(x) = 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  </a:t>
            </a:r>
            <a:br>
              <a:rPr sz="3000"/>
            </a:br>
            <a:br>
              <a:rPr sz="3000"/>
            </a:b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  f(x) = - 10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 '(x) = 0  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rivative of a power function (power rule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 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erivative of f(x) = 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here r is a constant real number is given by  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 '(x) = r x 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r - 1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  f(x) = 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 -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 '(x) = -2 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 -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-2 / 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 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ivative of a function multiplied by a constant:</a:t>
            </a:r>
            <a:br>
              <a:rPr sz="28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rivative of f(x) = c g(x) is given by 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 '(x) = c g '(x)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 f(x) =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c = 3, and g(x)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3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'(x) = c g '(x) = 3 (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9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ivative of the sum of functions (sum rule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 </a:t>
            </a:r>
            <a:br>
              <a:rPr sz="3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rivative of f(x) = g(x) + h(x) is given by 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 '(x) = g '(x) + h '(x)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 f(x)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4   Let g(x)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(x) = 4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f '(x) = g '(x) + h '(x) = 2x + 0 = 2x</a:t>
            </a:r>
            <a:r>
              <a:rPr b="0" lang="en-US" sz="3200" spc="-1" strike="noStrike">
                <a:solidFill>
                  <a:srgbClr val="fa130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angent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4"/>
          <p:cNvSpPr/>
          <p:nvPr/>
        </p:nvSpPr>
        <p:spPr>
          <a:xfrm>
            <a:off x="1371600" y="213372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5"/>
          <p:cNvSpPr/>
          <p:nvPr/>
        </p:nvSpPr>
        <p:spPr>
          <a:xfrm>
            <a:off x="762120" y="60199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rc 8"/>
          <p:cNvSpPr/>
          <p:nvPr/>
        </p:nvSpPr>
        <p:spPr>
          <a:xfrm>
            <a:off x="1143000" y="3581280"/>
            <a:ext cx="5715000" cy="2895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4952880" y="2286000"/>
            <a:ext cx="243864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6629400" y="5715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6710040" y="4668840"/>
            <a:ext cx="134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inter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4"/>
          <p:cNvSpPr/>
          <p:nvPr/>
        </p:nvSpPr>
        <p:spPr>
          <a:xfrm flipH="1">
            <a:off x="6781320" y="52578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ope of a secant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3"/>
          <p:cNvSpPr/>
          <p:nvPr/>
        </p:nvSpPr>
        <p:spPr>
          <a:xfrm>
            <a:off x="1371600" y="213372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762120" y="60199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rc 5"/>
          <p:cNvSpPr/>
          <p:nvPr/>
        </p:nvSpPr>
        <p:spPr>
          <a:xfrm>
            <a:off x="1143000" y="3581280"/>
            <a:ext cx="5715000" cy="2895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4952880" y="2286000"/>
            <a:ext cx="243864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7"/>
          <p:cNvSpPr/>
          <p:nvPr/>
        </p:nvSpPr>
        <p:spPr>
          <a:xfrm>
            <a:off x="6629400" y="5715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477120" y="601992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814760" y="598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1523880" y="3429000"/>
            <a:ext cx="579132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13"/>
          <p:cNvSpPr/>
          <p:nvPr/>
        </p:nvSpPr>
        <p:spPr>
          <a:xfrm>
            <a:off x="19051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1982160" y="45720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6"/>
          <p:cNvSpPr/>
          <p:nvPr/>
        </p:nvSpPr>
        <p:spPr>
          <a:xfrm>
            <a:off x="1905120" y="38098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8"/>
          <p:cNvSpPr/>
          <p:nvPr/>
        </p:nvSpPr>
        <p:spPr>
          <a:xfrm>
            <a:off x="655308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5715360" y="556272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6156000" y="225108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a) - 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21"/>
          <p:cNvSpPr/>
          <p:nvPr/>
        </p:nvSpPr>
        <p:spPr>
          <a:xfrm>
            <a:off x="6172200" y="2666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6400800" y="2590920"/>
            <a:ext cx="7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-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ope of a (closer) secant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"/>
          <p:cNvSpPr/>
          <p:nvPr/>
        </p:nvSpPr>
        <p:spPr>
          <a:xfrm>
            <a:off x="1371600" y="213372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"/>
          <p:cNvSpPr/>
          <p:nvPr/>
        </p:nvSpPr>
        <p:spPr>
          <a:xfrm>
            <a:off x="762120" y="60199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rc 5"/>
          <p:cNvSpPr/>
          <p:nvPr/>
        </p:nvSpPr>
        <p:spPr>
          <a:xfrm>
            <a:off x="1143000" y="3581280"/>
            <a:ext cx="5715000" cy="2895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4952880" y="2286000"/>
            <a:ext cx="243864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7"/>
          <p:cNvSpPr/>
          <p:nvPr/>
        </p:nvSpPr>
        <p:spPr>
          <a:xfrm>
            <a:off x="6629400" y="5715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6477120" y="601992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202200" y="6019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1523880" y="3429000"/>
            <a:ext cx="579132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1"/>
          <p:cNvSpPr/>
          <p:nvPr/>
        </p:nvSpPr>
        <p:spPr>
          <a:xfrm>
            <a:off x="19051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2590920" y="472428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1905120" y="3733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655308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5715360" y="556272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6156000" y="225108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a) - 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7"/>
          <p:cNvSpPr/>
          <p:nvPr/>
        </p:nvSpPr>
        <p:spPr>
          <a:xfrm>
            <a:off x="6172200" y="2666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6400800" y="2590920"/>
            <a:ext cx="7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-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9"/>
          <p:cNvSpPr/>
          <p:nvPr/>
        </p:nvSpPr>
        <p:spPr>
          <a:xfrm>
            <a:off x="2057400" y="3048120"/>
            <a:ext cx="556272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21"/>
          <p:cNvSpPr/>
          <p:nvPr/>
        </p:nvSpPr>
        <p:spPr>
          <a:xfrm>
            <a:off x="3276720" y="37339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3352680" y="39625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1754280" y="603576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2133720" y="6324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r and clos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1371600" y="213372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762120" y="60199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rc 5"/>
          <p:cNvSpPr/>
          <p:nvPr/>
        </p:nvSpPr>
        <p:spPr>
          <a:xfrm>
            <a:off x="1143000" y="3581280"/>
            <a:ext cx="5715000" cy="2895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4952880" y="2286000"/>
            <a:ext cx="243864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6629400" y="5715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6477120" y="601992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"/>
          <p:cNvSpPr/>
          <p:nvPr/>
        </p:nvSpPr>
        <p:spPr>
          <a:xfrm>
            <a:off x="1523880" y="3429000"/>
            <a:ext cx="579132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19051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2057400" y="3048120"/>
            <a:ext cx="556272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20"/>
          <p:cNvSpPr/>
          <p:nvPr/>
        </p:nvSpPr>
        <p:spPr>
          <a:xfrm>
            <a:off x="3276720" y="37339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1754280" y="6035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3"/>
          <p:cNvSpPr/>
          <p:nvPr/>
        </p:nvSpPr>
        <p:spPr>
          <a:xfrm>
            <a:off x="2133720" y="6324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7"/>
          <p:cNvSpPr/>
          <p:nvPr/>
        </p:nvSpPr>
        <p:spPr>
          <a:xfrm>
            <a:off x="3200400" y="3048120"/>
            <a:ext cx="426708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28"/>
          <p:cNvSpPr/>
          <p:nvPr/>
        </p:nvSpPr>
        <p:spPr>
          <a:xfrm>
            <a:off x="4724280" y="4191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30"/>
          <p:cNvSpPr/>
          <p:nvPr/>
        </p:nvSpPr>
        <p:spPr>
          <a:xfrm>
            <a:off x="3962520" y="3276720"/>
            <a:ext cx="350496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31"/>
          <p:cNvSpPr/>
          <p:nvPr/>
        </p:nvSpPr>
        <p:spPr>
          <a:xfrm>
            <a:off x="5257800" y="4419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3"/>
          <p:cNvSpPr/>
          <p:nvPr/>
        </p:nvSpPr>
        <p:spPr>
          <a:xfrm>
            <a:off x="4724280" y="3352680"/>
            <a:ext cx="251460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4"/>
          <p:cNvSpPr/>
          <p:nvPr/>
        </p:nvSpPr>
        <p:spPr>
          <a:xfrm>
            <a:off x="6019920" y="4952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5"/>
          <p:cNvSpPr/>
          <p:nvPr/>
        </p:nvSpPr>
        <p:spPr>
          <a:xfrm>
            <a:off x="5105520" y="3048120"/>
            <a:ext cx="190476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36"/>
          <p:cNvSpPr/>
          <p:nvPr/>
        </p:nvSpPr>
        <p:spPr>
          <a:xfrm>
            <a:off x="6400800" y="5334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7"/>
          <p:cNvSpPr/>
          <p:nvPr/>
        </p:nvSpPr>
        <p:spPr>
          <a:xfrm>
            <a:off x="3276720" y="632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38"/>
          <p:cNvSpPr/>
          <p:nvPr/>
        </p:nvSpPr>
        <p:spPr>
          <a:xfrm>
            <a:off x="4800600" y="6324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0"/>
          <p:cNvSpPr/>
          <p:nvPr/>
        </p:nvSpPr>
        <p:spPr>
          <a:xfrm>
            <a:off x="5257800" y="6324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41"/>
          <p:cNvSpPr/>
          <p:nvPr/>
        </p:nvSpPr>
        <p:spPr>
          <a:xfrm>
            <a:off x="6019920" y="6324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ch the slop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"/>
          <p:cNvSpPr/>
          <p:nvPr/>
        </p:nvSpPr>
        <p:spPr>
          <a:xfrm>
            <a:off x="1371600" y="213372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762120" y="60199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rc 5"/>
          <p:cNvSpPr/>
          <p:nvPr/>
        </p:nvSpPr>
        <p:spPr>
          <a:xfrm>
            <a:off x="1143000" y="3581280"/>
            <a:ext cx="5715000" cy="2895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4952880" y="2286000"/>
            <a:ext cx="243864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629400" y="5715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1523880" y="3429000"/>
            <a:ext cx="579132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2057400" y="3048120"/>
            <a:ext cx="556272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1754280" y="6035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3200400" y="3048120"/>
            <a:ext cx="426708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7"/>
          <p:cNvSpPr/>
          <p:nvPr/>
        </p:nvSpPr>
        <p:spPr>
          <a:xfrm>
            <a:off x="3962520" y="3276720"/>
            <a:ext cx="350496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9"/>
          <p:cNvSpPr/>
          <p:nvPr/>
        </p:nvSpPr>
        <p:spPr>
          <a:xfrm>
            <a:off x="4724280" y="3352680"/>
            <a:ext cx="251460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5105520" y="3048120"/>
            <a:ext cx="190476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7"/>
          <p:cNvSpPr/>
          <p:nvPr/>
        </p:nvSpPr>
        <p:spPr>
          <a:xfrm>
            <a:off x="1600200" y="3276720"/>
            <a:ext cx="533412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8"/>
          <p:cNvSpPr/>
          <p:nvPr/>
        </p:nvSpPr>
        <p:spPr>
          <a:xfrm>
            <a:off x="1676520" y="3048120"/>
            <a:ext cx="548640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9"/>
          <p:cNvSpPr/>
          <p:nvPr/>
        </p:nvSpPr>
        <p:spPr>
          <a:xfrm>
            <a:off x="2362320" y="3048120"/>
            <a:ext cx="457200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1"/>
          <p:cNvSpPr/>
          <p:nvPr/>
        </p:nvSpPr>
        <p:spPr>
          <a:xfrm>
            <a:off x="2819520" y="3048120"/>
            <a:ext cx="419076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32"/>
          <p:cNvSpPr/>
          <p:nvPr/>
        </p:nvSpPr>
        <p:spPr>
          <a:xfrm>
            <a:off x="4191120" y="3200400"/>
            <a:ext cx="297180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33"/>
          <p:cNvSpPr/>
          <p:nvPr/>
        </p:nvSpPr>
        <p:spPr>
          <a:xfrm>
            <a:off x="4876920" y="3048120"/>
            <a:ext cx="205740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3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1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9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7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3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1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9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7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3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ch what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o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371600" y="213372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762120" y="60199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rc 5"/>
          <p:cNvSpPr/>
          <p:nvPr/>
        </p:nvSpPr>
        <p:spPr>
          <a:xfrm>
            <a:off x="1143000" y="3581280"/>
            <a:ext cx="5715000" cy="2895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7"/>
          <p:cNvSpPr/>
          <p:nvPr/>
        </p:nvSpPr>
        <p:spPr>
          <a:xfrm>
            <a:off x="6629400" y="5715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6477120" y="601992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10"/>
          <p:cNvSpPr/>
          <p:nvPr/>
        </p:nvSpPr>
        <p:spPr>
          <a:xfrm>
            <a:off x="19051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12"/>
          <p:cNvSpPr/>
          <p:nvPr/>
        </p:nvSpPr>
        <p:spPr>
          <a:xfrm>
            <a:off x="3276720" y="37339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1754280" y="6035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2133720" y="6324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16"/>
          <p:cNvSpPr/>
          <p:nvPr/>
        </p:nvSpPr>
        <p:spPr>
          <a:xfrm>
            <a:off x="4724280" y="4191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18"/>
          <p:cNvSpPr/>
          <p:nvPr/>
        </p:nvSpPr>
        <p:spPr>
          <a:xfrm>
            <a:off x="5257800" y="4419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20"/>
          <p:cNvSpPr/>
          <p:nvPr/>
        </p:nvSpPr>
        <p:spPr>
          <a:xfrm>
            <a:off x="6019920" y="4952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22"/>
          <p:cNvSpPr/>
          <p:nvPr/>
        </p:nvSpPr>
        <p:spPr>
          <a:xfrm>
            <a:off x="6400800" y="5334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3"/>
          <p:cNvSpPr/>
          <p:nvPr/>
        </p:nvSpPr>
        <p:spPr>
          <a:xfrm>
            <a:off x="3276720" y="632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4"/>
          <p:cNvSpPr/>
          <p:nvPr/>
        </p:nvSpPr>
        <p:spPr>
          <a:xfrm>
            <a:off x="4800600" y="6324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5"/>
          <p:cNvSpPr/>
          <p:nvPr/>
        </p:nvSpPr>
        <p:spPr>
          <a:xfrm>
            <a:off x="5257800" y="6324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6"/>
          <p:cNvSpPr/>
          <p:nvPr/>
        </p:nvSpPr>
        <p:spPr>
          <a:xfrm>
            <a:off x="6019920" y="6324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1814760" y="598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7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2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4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9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1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6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8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73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ope of the secant line gets closer and closer to the slope of the tangent lin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1371600" y="213372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62120" y="60199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rc 5"/>
          <p:cNvSpPr/>
          <p:nvPr/>
        </p:nvSpPr>
        <p:spPr>
          <a:xfrm>
            <a:off x="1143000" y="3581280"/>
            <a:ext cx="5715000" cy="2895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4952880" y="2286000"/>
            <a:ext cx="243864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7"/>
          <p:cNvSpPr/>
          <p:nvPr/>
        </p:nvSpPr>
        <p:spPr>
          <a:xfrm>
            <a:off x="6629400" y="5715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1523880" y="3429000"/>
            <a:ext cx="579132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2057400" y="3048120"/>
            <a:ext cx="556272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754280" y="6035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3200400" y="3048120"/>
            <a:ext cx="426708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3962520" y="3276720"/>
            <a:ext cx="350496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4724280" y="3352680"/>
            <a:ext cx="251460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5105520" y="3048120"/>
            <a:ext cx="190476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1600200" y="3276720"/>
            <a:ext cx="533412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6"/>
          <p:cNvSpPr/>
          <p:nvPr/>
        </p:nvSpPr>
        <p:spPr>
          <a:xfrm>
            <a:off x="1676520" y="3048120"/>
            <a:ext cx="548640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7"/>
          <p:cNvSpPr/>
          <p:nvPr/>
        </p:nvSpPr>
        <p:spPr>
          <a:xfrm>
            <a:off x="2362320" y="3048120"/>
            <a:ext cx="457200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8"/>
          <p:cNvSpPr/>
          <p:nvPr/>
        </p:nvSpPr>
        <p:spPr>
          <a:xfrm>
            <a:off x="2819520" y="3048120"/>
            <a:ext cx="419076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4191120" y="3200400"/>
            <a:ext cx="297180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0"/>
          <p:cNvSpPr/>
          <p:nvPr/>
        </p:nvSpPr>
        <p:spPr>
          <a:xfrm>
            <a:off x="4876920" y="3048120"/>
            <a:ext cx="205740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8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2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9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6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3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7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4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1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8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11:49:37Z</dcterms:created>
  <dc:creator>amoser</dc:creator>
  <dc:description/>
  <dc:language>en-US</dc:language>
  <cp:lastModifiedBy>SHS</cp:lastModifiedBy>
  <dcterms:modified xsi:type="dcterms:W3CDTF">2011-06-09T12:03:55Z</dcterms:modified>
  <cp:revision>18</cp:revision>
  <dc:subject/>
  <dc:title>derivatives</dc:title>
</cp:coreProperties>
</file>